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295280" y="228600"/>
            <a:ext cx="70866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 Calculator and VCRat 2.6 Training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CWPD December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m Lagier, Dir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gio Vargas, Deputy Direc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drology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1297080" y="4572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Bandurrag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tt Hol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6629400" y="3886200"/>
            <a:ext cx="18288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66640" y="177840"/>
            <a:ext cx="438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CRat 2.6 Training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09480" y="5943600"/>
            <a:ext cx="38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ember 8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tura County Government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8160" y="5943600"/>
            <a:ext cx="19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Bandurra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tt H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20040" y="1066680"/>
            <a:ext cx="24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OS!!  What’s DOS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48240" y="1828800"/>
            <a:ext cx="549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on’t you guys have a Windows version of VCRat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8560" y="2666880"/>
            <a:ext cx="652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re must be an easier way than entering data in a text file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61720" y="3429000"/>
            <a:ext cx="65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hy doesn’t this model run?  Why is it stuck in an error loop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42040" y="4343400"/>
            <a:ext cx="31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 need a ‘1’ in what column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68160" y="4038480"/>
            <a:ext cx="449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HELP!!!!!!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98360" y="5181480"/>
            <a:ext cx="24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hat is a 005 Card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934320" y="304920"/>
            <a:ext cx="18288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834200" y="6172200"/>
            <a:ext cx="54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w update Windows-friendly version of VCR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ing VCRat 2.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905120" y="1066680"/>
            <a:ext cx="521964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14400" y="1600200"/>
            <a:ext cx="7315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CRat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CRat 2.6 Complex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Started / Getting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/Importing an existing VCRat 2.2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ing a Model from Scr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Model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l Reduction/ Fattening / Yield 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We Cover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1523880"/>
            <a:ext cx="36576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d Rational Method- Uses rainfall hyetograph to simulate a hydrograph that can be confluenced with other suba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s Channel and Reservoir Routing (Modified Pu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intended to model                                           watersheds - not for catch basins or 1-ac subareas                                                lots. (i.e 40-80 acres recommen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809880" y="1828800"/>
          <a:ext cx="5029200" cy="331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1828800"/>
                    <a:ext cx="5029200" cy="33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CRat 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8600" y="1219320"/>
            <a:ext cx="8534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uses the core VCRat 2.2 Fortran Program (with a few modification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 Windows interface to enter and run a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structure is now Windows                                                     compliant. Also has been tes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Windows Vi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d help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model output re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parameter chec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can use both J and J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ves at the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VCRat 2.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501012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38080" y="1295280"/>
            <a:ext cx="7772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cycling capability for Areal Reduc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ed VCRat 2.2 models may not run or yield same ans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performs the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 storm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s change in channel type with # sign if program is auto-selecting cha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routed Q value need placeholder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extrapolation of basin stage-storage cu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CRAIN.DAT file same as required for Tc Calculator; different format than used in VCRat 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CRat 2.6 Complex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1143000"/>
            <a:ext cx="7848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 package places a shortcut on deskt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CRat and TcCalc are found under the Start Menu.  Start -&gt; VCWPD Hydrology -&gt; VCRat 2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menu on Main Windo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‘?’ on dialogue bo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able help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drology Manual and  help                                                        files also available from Start Men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tting Started / Getting Hel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4920" y="5334120"/>
          <a:ext cx="3952800" cy="105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334120"/>
                    <a:ext cx="3952800" cy="10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343400" y="2143080"/>
          <a:ext cx="4659480" cy="4591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2143080"/>
                    <a:ext cx="465948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920" y="1295280"/>
            <a:ext cx="7848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mport VCRat2… under the File men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VCRat 2.2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issues or warnings will be                                                                 displayed and can be sa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the model in .vin form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orrect any issues/warnin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es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orting an Existing VCRat 2.2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80880" y="5257800"/>
          <a:ext cx="3191040" cy="95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5257800"/>
                    <a:ext cx="31910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114800" y="1752480"/>
          <a:ext cx="4876920" cy="4803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14800" y="1752480"/>
                    <a:ext cx="4876920" cy="48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0880" y="1219320"/>
            <a:ext cx="7848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Run Model under the Mo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issues or warnings will be                                                                 displayed and can be sa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DOS Window will appear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output file will appear 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cessful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tuck in endless loop, use tas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 to s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a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04920" y="4267080"/>
          <a:ext cx="4038480" cy="200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267080"/>
                    <a:ext cx="4038480" cy="20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419720" y="1600200"/>
          <a:ext cx="4647960" cy="4572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19720" y="1600200"/>
                    <a:ext cx="46479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95280" y="1143000"/>
            <a:ext cx="746784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bility features such as double-click opens edit window, and remembers last selected 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s can use relative paths instead of the absolute paths in VCRat 2.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 and Export hydrographs and stage-storage-discharge curves to comma separated (csv)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or Insert a copy of another 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rvoir routing can be turned off for a run without deleting reservoir inf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graphs outputs are now to 2 decimal places so volumes can be calculated correc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several know bugs and enhanced the error catching 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VCRat 2.6 run on Windows Vista.  (Has been tried on one computer but unknown if it runs on all configurations of Windows Vist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Features in VCRat 2.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 Calcul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es Tc Cal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s J, J’, K, and L Zone Rain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-, 25-, 50-, and 100-yr 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t with 1991 Manual 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s the number of required calculations for hydrology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838080"/>
            <a:ext cx="18288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95280" y="1143000"/>
            <a:ext cx="74678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ing/Running VCRat 2.2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ing a Model from Scr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Model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Stream Ro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Reservoir / Fat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ing and Exporting Hydro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CRat 2.6 Demon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133720"/>
            <a:ext cx="792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590920" y="4191120"/>
            <a:ext cx="380988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site Produ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net- http://watershedweb/hydrology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 Calculator bundled with VCRat 2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 Calculator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 Hydrolog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791320" y="2895480"/>
            <a:ext cx="18288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 Calculator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 Calculator Program and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07 and 12/08 Train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6 Hydrolog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 of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hibits for Hand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nk Hand Calculation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examples with Calculator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S Files for Workmap cre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324480" y="3048120"/>
            <a:ext cx="18288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-area delineation (40-80 ac re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sub-area flow-paths (overland, natural or valley channel, street, pipe, channel) and delineate a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flow-path areas and percents, lengths, elevations, sl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soil, rain zone, st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553080" y="4648320"/>
            <a:ext cx="18288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land Flow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veloped area max length 1,000 ft or to point where contours indicate 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area max length 200 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undeveloped, check for scour velo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- and 50-yr min velocity=1.0 fps (If very low slope, min=0.5 fps but do by ha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- and 10-yr min velocity=0.5 f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162920" y="5029200"/>
            <a:ext cx="18288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3341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o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peak flow for single sub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nd flow slope limited to 0.35 ft/ft- higher slopes will be reduced to 0.35 ft/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tab might mess up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itive to data input- highlight and over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553080" y="152280"/>
            <a:ext cx="18288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Features in TC Calc 2.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ed memory issues that crashed program when deleting suba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move subareas up or down in tree to change the 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summary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scour error che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several bu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248520" y="4572000"/>
            <a:ext cx="18288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 Demonst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wn Barranca Subarea 1A Un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wn Barranca Subarea 29B Resid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Exercise 1- Use Tc Calculator to calculate Tc for Brown Barranca Subarea 2A- Un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248520" y="4572000"/>
            <a:ext cx="18288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7:21:11Z</dcterms:created>
  <dc:creator>Holders</dc:creator>
  <dc:description/>
  <dc:language>en-US</dc:language>
  <cp:lastModifiedBy>bandurm</cp:lastModifiedBy>
  <dcterms:modified xsi:type="dcterms:W3CDTF">2009-02-18T22:08:05Z</dcterms:modified>
  <cp:revision>41</cp:revision>
  <dc:subject/>
  <dc:title>Slide 1</dc:title>
</cp:coreProperties>
</file>